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77F-AFF8-4DD4-8EDC-F3D13EFC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BAA-4925-495A-9D1B-EEC777F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A07-4E0E-402D-A374-31A2DA0F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363-3B07-427A-BEDC-C53C2E97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6AA-EEE6-4C32-8534-CEA0E27A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BF83-0271-4C2D-A537-782870A3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5B3-58D4-48E8-AC79-6413F3F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29C3-1F58-4700-950D-9D63F3C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BE79-FB70-41E9-9224-D27ACD0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103C-7297-4F20-96BC-FC21083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1B08-9B55-4C15-A7F5-E606889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395-5D88-43AF-A6E0-49C3188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14B2-73A6-46B0-BB19-FCD0E53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11C-14FD-4D46-AE0F-3860685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5FC8-FD5A-4397-A3F3-3651C56E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273-10E8-4B6F-BAE1-4F878D3F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79B-0611-427B-8F0A-72BD6F8F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5F4B6-37A2-4B47-B9B1-5005DCAB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DE6DA-370C-4656-ABE8-6B02618A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5C4BB-A1AF-433E-8022-451241D4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3B1B1-AC70-4483-ADE1-9D3422A9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C9013-4645-4BA3-8A22-CD0BBB1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463-A328-4190-8007-9A8380DD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F7855-A8C0-47A0-BF55-CC77263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7866F-D43B-42EE-9B23-7AD9B0A8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13FFF-2AC4-4955-88AA-4C37EA9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29DBD-A67B-44E4-A532-E43A325D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93498-DC18-4A7C-ADA7-BB76B001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F444D-E03A-4916-98D8-A999D8A1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20D25-320A-473F-ACE0-AEA83160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C5F4-FDEE-4E45-A1CC-E69ED1A6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6B61-654E-4A85-829D-74BE6D1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D25B-10AA-4FF4-BCFF-18EDA92F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599-428F-4F02-BD0B-F8435F8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15B1-1460-48FF-A9D1-8EAE0B47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42F5-6DEF-4D6D-AC5E-4BB4D2E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2A47-E102-4ADB-8764-FA81AA77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F4DF-5ED4-46A0-B86C-4115B765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CE22-2180-4F6D-9E76-A79ECFF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B131-49E4-4A3E-B132-1F2C488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A953-C506-4406-B2A8-4A4803A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319E-58F2-4F9A-8713-25BCF7BC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3FE3-98E7-481E-936B-24B228A5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89DF6-65AB-4E1D-ACC6-67AA96D6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01A-76A2-428D-8926-CC395C9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BDE35-62B6-46EC-BE71-AEC1DE18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9ECCC-2ACA-4F90-87C3-C38F70D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CF039-E0E3-49B5-980A-A8A8261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B08AF-AFA4-4E94-B117-03D91E1C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7BE8D-FE4A-4B5C-BF48-60969EA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445C6-883D-4C4B-AFB2-00E8107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42B52-58C0-4DCD-BA0E-AB22451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F50CF-FAAB-4A8A-B500-298785F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B09DC-B396-49AF-9A25-4E1675D6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A22F2-8D78-410D-B717-3DBAC013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BBA-24F3-4965-8A4A-596768C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92FC0-3875-4387-8373-824C7A77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A192-B94C-4CFF-813A-2AAA38F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FE2AF-C043-451E-8C13-4CDA405B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1D343-1B38-4EA0-BEEE-5865B04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0943-06B3-4258-B59B-320F44C3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E210-2C64-4C80-9C4A-2BFD157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EA9A-DAE1-4100-8E13-D4FC6D4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B8E92-6D75-4B8E-881E-3696676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6E035-0F75-4F97-B9C6-2DF51A00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B631-6E14-4805-942F-56832C37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A2B-903D-4781-88F9-B3121A5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AF05-8738-484A-9A61-86AAE626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39339-1343-4E6D-AB2B-A25531CD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FE18-2D29-4E39-992A-8E6A67A1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B72-4CA9-4F09-B554-80B0ABE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EF7-1E19-4926-90C8-BD096831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F5C6-4673-4923-935C-859D9153F3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DE67-73E5-49CA-B998-4CE6B9553A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E8C-ACFB-44D9-AE5F-099A3611463C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B6AE-9734-4C55-93BC-23E902E0F6CF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DC9-981A-490C-A33F-0062A22C7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1A3-4D9B-4F6B-AC33-095732F698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Russian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arch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s: Duma disobeys Tsar’s orders to dissolve and form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visional Government (democratic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run Rus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rs Council (labor union) or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etrograd Sovi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ok control over city and arrested tsar’s mini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sar abdicated on March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brother Michael (not son Alexis who had hemophilia and was weak) when brother abdicated a day later with no successor – chaos. Romanov dynasty ends. Family under arr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81016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viet Political Ide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radical and revolutionary than the Provisional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nfluenced by Marxist soci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ulated western soci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wo F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- “Mensheviks” (wanted a democratic gov’t with socialist par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- “Bolsheviks” (wanted dictatorship w/no parties except socialis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83120" cy="2698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267080" y="5334120"/>
            <a:ext cx="533520" cy="6094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t’s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communis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Karl Marx in 1848 see as the probl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Marx want as the solu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the terms proletariat and bourgeois mean in regards to communis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is generally a characteristic of a communist econom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ment is encouraged by the promise of large profi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le of government in the economy is restricted by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agencies are involved in produc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preneurs sell shares in their companies to the 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 of Marxism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unist Manifesto 184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ocial classes – proletariat (working class in factories) and bourgeoisie (capitalist factory own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urgeoisie make a profit off of hard work of proletari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letariat must unite and overthrow bourgeoi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olution will lead to a classless socie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wards production in hands of st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 Question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1917 victory of the communists in Russia was a contradiction of Marxist theory because Russia wa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ready ruled by a socialist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d in World War 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an agricultural socie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considered to be a military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under of Bolshevism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Vladimir Leni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ther executed for assassination plot against Ts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in - Exiled to Siberia in 18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ned to Russia by Germans to undermine Russia in w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logans - “Peace, Land, Bread” and “Religion is the opiate of the masses”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anti-Religion - Mar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lshevik party membership exploded within the large urban workforce (proletari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2162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slogan expressed the ideals of the Bolshevik Revolution of 1917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erty, Equality, and Fratern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d, Land, and Pe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and Liber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ism, Democracy, and the People’s Liveliho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November or “Bolshevik”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lsheviks led by Trotsky and Lenin invaded Provisional Government on Nov. 6 19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l private property of wealthy was abolished and divided among the peasa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Largest industrial enterprises nationa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cal Police organized: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HEK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will become later KB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olutionary army created with Trotsky i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- 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d Arm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lshevik Party renamed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ommunist Par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March of 19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. Petersburg (after Romanov Tzar – Peter the Great) renamed Petrogr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43400" cy="2901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610480" y="2438280"/>
            <a:ext cx="533520" cy="6098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4495680"/>
            <a:ext cx="533520" cy="6098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ussian peasants supported the Bolsheviks in the 1917 Revolutions mainly because the Bolsheviks promised t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collective far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 the agricultural price-support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 modern technology to Russian far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istribute the land owned by the no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g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now – What were the long-term and immediate causes of the Russian R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g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now – What were the results of the Bolshevik R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onder – how successful were the results of the Bolshevik revolution in solving the economic and political problems that were facing Russia in 1917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lts of Rev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in Government – absolute monarchy to communist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War eru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leaves WW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Deva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ural Coll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ivil War – Reds vs. Wh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1918-1921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olshevik) Army – supported by workers and Russian Army (peasant conscription – 5 million by 1921 – death penalty to deserters); controlled key cities, industries, and railro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i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nti-Bolshevik) forces – supported by liberals, Tsarists, religious, moderate socialists; supported by Allied powers – especially Churchill; poor communication and spread out; Cossacks persecuted Jewish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ee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narchists) – supported by peasants, military dese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219320" y="5410080"/>
            <a:ext cx="6629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eaty of Brest Litov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603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 to 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did the Russian people feel about the Treaty of Bres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tovs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fter the Allied Powers win the war with Germany, should Russia have been given back its territory?  Why?  Why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conomic Problems in Facto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orker’s committees incapable of running factories – often voted themselves pay rises &amp; stole g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ndustrial output shran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esp. consumer goods leading to price infl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ll industry national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nd managed by st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New laws on labour discipl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e.g. fines for lateness &amp; absente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orking class &amp; army members given priority over 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3657600"/>
            <a:ext cx="685800" cy="60948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ue/False.  The redistribution of land and the nationalism (state-run) of industry was economically successful for Rus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Farmers &amp; peas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Food prices increased, bread shortag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– Feb 1918 bread ration in Petrograd reached 50 grams per person per 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09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ny peasants stop planting seed in protest, agricultural production fell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800600" y="377676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447920" y="5791320"/>
            <a:ext cx="3581280" cy="761760"/>
          </a:xfrm>
          <a:prstGeom prst="rightArrow">
            <a:avLst>
              <a:gd name="adj1" fmla="val 50000"/>
              <a:gd name="adj2" fmla="val 11753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Tahoma"/>
              </a:rPr>
              <a:t>Secret hoard of food f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5791320"/>
            <a:ext cx="609840" cy="76176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ed Terr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Chief instrument =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eka</a:t>
            </a: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 (renamed GPU in 192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wers of arrest, detention and tor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1918-20 13,000 prisoners executed (official records) – unofficial records 300,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ssian Orthodox Church leaders executed</a:t>
            </a: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; 1000s priests impriso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1922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riters &amp; scholars depor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ffective – Autocratic Rul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itary Fail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Hard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olutionary In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action taken by both V.I. Lenin and Joseph Stalin wa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empting to bring democracy to Russ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iling or murdering potential oppon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ing the Russian Orthodox Chur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ing economic aid to Japan after World War I and World War I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sar &amp; his fami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7 July 1918 Tsar &amp; family shot despite fears of antagonising Germany (Tsar cousin of Kaiser, Tsarina was Germa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151600" y="1668600"/>
            <a:ext cx="3030480" cy="2047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1667160" cy="1943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620120" y="54864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nast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7339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Room in which the family were killed (even family dog kil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358164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Question to Pond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 the new government established by Lenin, Trotsky, and later Stalin more, less or similarly as autocratic/successful as that under Czar Nichola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effective Rul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nly true autocracy left in Eur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especially after assassination of Alexande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type of representative political institutions –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u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reated by Alexander II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arely given right to assemb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olas II became Tsar in 1884; Believed he was the absolute ruler anointed by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6705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effective Rul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olas was personally a very weak man – left the control of his country in the hands of his private gu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sar became increasingly remote as a ru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fe, Alexandra, even more blindly committed to autocracy than her husb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was under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nfluence of mystic, Rasput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try to solve her son’s hemophil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248280" cy="4876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382920" cy="51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llapse of the Imperial Govern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olas leaves for the Front—September, 19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xandra and Rasputin and other high government officials accused of trea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sputin assassinated in December of 1916 by supporters of Tsar who thought Rasputin was bad for the Tsar's repu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041640" cy="4114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09716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litary Fail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ean War – 185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sso-Japanese War – 19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nenberg Forest – 19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 I – 5 million men killed, poorly supplied, average peasant did not see reason for being i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343400" cy="28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situation resulted from the Russo-Japanese War of 1905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pan lost its status as a world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apanese Emperor encouraged reforms in Rus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ident groups challenged the power of the Russian Cz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gained control of China and Jap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Fail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loody Sun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(1905)– workers peacefully protested at Tsar's winter palace due to bread shortages – Tsar's guards killed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rch 191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Women begin a march on International Women’s Day in St. Petersburg shouting “Peace &amp; Bread” –hundred of thousands of workers join in 3 day stri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rotests wartime misery, working conditions in early industrial factories, incomplete rural reform and unresponsive political respon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sar tells military to disperse crowds – they refuse and 80,000 join in the crow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3:09:27Z</dcterms:created>
  <dc:creator> </dc:creator>
  <dc:description/>
  <dc:language>en-US</dc:language>
  <cp:lastModifiedBy>teacher</cp:lastModifiedBy>
  <dcterms:modified xsi:type="dcterms:W3CDTF">2012-01-12T13:43:19Z</dcterms:modified>
  <cp:revision>41</cp:revision>
  <dc:subject/>
  <dc:title>The Russian Revolution</dc:title>
</cp:coreProperties>
</file>